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BEA-6375-4643-9955-9418D701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1A2-4A0A-4FC7-A819-DB64BA7D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653-0058-4A94-AB79-7E8DAC57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16B5-2369-4145-8E45-893F9863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FAB9-4508-4EEA-907D-51D330DF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A976-F504-4C37-BF15-0AEF2202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ABAE-E24B-484E-A62D-39C98567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167-CCDA-4598-AB40-701EB0DC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A8B0-E07E-4696-A15F-D3040ED0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5B0-9AB5-4F62-A325-D920BB65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3589-FB63-486E-BBFD-BA80A966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4F85-7131-4E85-A1AC-B020F95B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5888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77920" indent="-22860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0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3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3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6B51-1822-4443-B95E-5D8B96A8A920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28.xml"/><Relationship Id="rId13" Type="http://schemas.openxmlformats.org/officeDocument/2006/relationships/slide" Target="slide28.xml"/><Relationship Id="rId1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" Target="slide22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" Target="slide32.xml"/><Relationship Id="rId7" Type="http://schemas.openxmlformats.org/officeDocument/2006/relationships/slide" Target="slide32.xml"/><Relationship Id="rId8" Type="http://schemas.openxmlformats.org/officeDocument/2006/relationships/slide" Target="slide34.xml"/><Relationship Id="rId9" Type="http://schemas.openxmlformats.org/officeDocument/2006/relationships/slide" Target="slide34.xml"/><Relationship Id="rId10" Type="http://schemas.openxmlformats.org/officeDocument/2006/relationships/slide" Target="slide42.xml"/><Relationship Id="rId11" Type="http://schemas.openxmlformats.org/officeDocument/2006/relationships/slide" Target="slide42.xml"/><Relationship Id="rId12" Type="http://schemas.openxmlformats.org/officeDocument/2006/relationships/slide" Target="slide44.xml"/><Relationship Id="rId13" Type="http://schemas.openxmlformats.org/officeDocument/2006/relationships/slide" Target="slide44.xml"/><Relationship Id="rId14" Type="http://schemas.openxmlformats.org/officeDocument/2006/relationships/slide" Target="slide1.xml"/><Relationship Id="rId15" Type="http://schemas.openxmlformats.org/officeDocument/2006/relationships/slide" Target="slide1.xml"/><Relationship Id="rId1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第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5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章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中文演示软件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PowerPoint 2000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4760" y="2133720"/>
            <a:ext cx="657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5.1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ea typeface="Times New Roman"/>
                <a:hlinkClick r:id="rId3" action="ppaction://hlinksldjump"/>
              </a:rPr>
              <a:t>中文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ea typeface="Times New Roman"/>
                <a:hlinkClick r:id="rId4" action="ppaction://hlinksldjump"/>
              </a:rPr>
              <a:t>PowerPoint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ea typeface="Times New Roman"/>
                <a:hlinkClick r:id="rId5" action="ppaction://hlinksldjump"/>
              </a:rPr>
              <a:t>概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5.2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ea typeface="Times New Roman"/>
                <a:hlinkClick r:id="rId7" action="ppaction://hlinksldjump"/>
              </a:rPr>
              <a:t>中文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ea typeface="Times New Roman"/>
                <a:hlinkClick r:id="rId8" action="ppaction://hlinksldjump"/>
              </a:rPr>
              <a:t>PowerPoint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ea typeface="Times New Roman"/>
                <a:hlinkClick r:id="rId9" action="ppaction://hlinksldjump"/>
              </a:rPr>
              <a:t>演示文稿的创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5.3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ea typeface="Times New Roman"/>
                <a:hlinkClick r:id="rId11" action="ppaction://hlinksldjump"/>
              </a:rPr>
              <a:t>幻灯片的处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5.4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ea typeface="Times New Roman"/>
                <a:hlinkClick r:id="rId13" action="ppaction://hlinksldjump"/>
              </a:rPr>
              <a:t>演示及打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5" descr=""/>
          <p:cNvPicPr/>
          <p:nvPr/>
        </p:nvPicPr>
        <p:blipFill>
          <a:blip r:embed="rId2">
            <a:grayscl/>
            <a:lum bright="6000"/>
          </a:blip>
          <a:stretch/>
        </p:blipFill>
        <p:spPr>
          <a:xfrm>
            <a:off x="380880" y="2209680"/>
            <a:ext cx="3962520" cy="2625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40992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41" descr=""/>
          <p:cNvPicPr/>
          <p:nvPr/>
        </p:nvPicPr>
        <p:blipFill>
          <a:blip r:embed="rId3">
            <a:grayscl/>
            <a:lum bright="6000"/>
          </a:blip>
          <a:stretch/>
        </p:blipFill>
        <p:spPr>
          <a:xfrm>
            <a:off x="4876920" y="2209680"/>
            <a:ext cx="3962160" cy="2679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78120" y="5334120"/>
            <a:ext cx="283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5  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选择演示文稿类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5334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6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选择演示文稿样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907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42" descr=""/>
          <p:cNvPicPr/>
          <p:nvPr/>
        </p:nvPicPr>
        <p:blipFill>
          <a:blip r:embed="rId2">
            <a:grayscl/>
            <a:lum bright="6000"/>
          </a:blip>
          <a:stretch/>
        </p:blipFill>
        <p:spPr>
          <a:xfrm>
            <a:off x="762120" y="2332080"/>
            <a:ext cx="3429000" cy="2192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3386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43" descr=""/>
          <p:cNvPicPr/>
          <p:nvPr/>
        </p:nvPicPr>
        <p:blipFill>
          <a:blip r:embed="rId3">
            <a:grayscl/>
            <a:lum bright="6000"/>
          </a:blip>
          <a:stretch/>
        </p:blipFill>
        <p:spPr>
          <a:xfrm>
            <a:off x="5029200" y="2290680"/>
            <a:ext cx="3429000" cy="2276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59200" y="5334120"/>
            <a:ext cx="24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7  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演示文稿选项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8920" y="5334120"/>
            <a:ext cx="27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8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设置演示文稿选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7640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44" descr=""/>
          <p:cNvPicPr/>
          <p:nvPr/>
        </p:nvPicPr>
        <p:blipFill>
          <a:blip r:embed="rId2">
            <a:grayscl/>
            <a:lum bright="6000"/>
          </a:blip>
          <a:stretch/>
        </p:blipFill>
        <p:spPr>
          <a:xfrm>
            <a:off x="1857240" y="1666800"/>
            <a:ext cx="5429520" cy="3522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184200" y="548640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9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创建的演示文稿示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0504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6" descr=""/>
          <p:cNvPicPr/>
          <p:nvPr/>
        </p:nvPicPr>
        <p:blipFill>
          <a:blip r:embed="rId2">
            <a:grayscl/>
            <a:lum bright="6000"/>
          </a:blip>
          <a:stretch/>
        </p:blipFill>
        <p:spPr>
          <a:xfrm>
            <a:off x="2362320" y="1143000"/>
            <a:ext cx="5295960" cy="3930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426840" y="54100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0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修改后的演示文稿示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5.2.2 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利用模板创建演示文稿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9" name="7" descr=""/>
          <p:cNvPicPr/>
          <p:nvPr/>
        </p:nvPicPr>
        <p:blipFill>
          <a:blip r:embed="rId2"/>
          <a:stretch/>
        </p:blipFill>
        <p:spPr>
          <a:xfrm>
            <a:off x="2157480" y="2041560"/>
            <a:ext cx="4829040" cy="2773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59280" y="5222880"/>
            <a:ext cx="28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1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新建演示文稿选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098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47920" y="1612800"/>
          <a:ext cx="6248160" cy="363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612800"/>
                    <a:ext cx="62481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531960" y="99072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2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设计模板选择列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>
            <a:hlinkClick r:id="rId4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5.2.3    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创建空白的演示文稿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1472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9" name="8" descr=""/>
          <p:cNvPicPr/>
          <p:nvPr/>
        </p:nvPicPr>
        <p:blipFill>
          <a:blip r:embed="rId2"/>
          <a:stretch/>
        </p:blipFill>
        <p:spPr>
          <a:xfrm>
            <a:off x="1785960" y="1781280"/>
            <a:ext cx="5572080" cy="3295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89320" y="54100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3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新幻灯片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5.2.4 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导入大纲创建演示文稿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2896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5" name="9" descr=""/>
          <p:cNvPicPr/>
          <p:nvPr/>
        </p:nvPicPr>
        <p:blipFill>
          <a:blip r:embed="rId2"/>
          <a:stretch/>
        </p:blipFill>
        <p:spPr>
          <a:xfrm>
            <a:off x="2286000" y="1698480"/>
            <a:ext cx="4648320" cy="3113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07800" y="51814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4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导入大纲创建演示文稿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.3    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幻灯片的处理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50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2" action="ppaction://hlinksldjump"/>
              </a:rPr>
              <a:t>5.3.1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3" action="ppaction://hlinksldjump"/>
              </a:rPr>
              <a:t>幻灯片的插入、修改、删除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4" action="ppaction://hlinksldjump"/>
              </a:rPr>
              <a:t>5.3.2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5" action="ppaction://hlinksldjump"/>
              </a:rPr>
              <a:t>幻灯片的复制与移动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6" action="ppaction://hlinksldjump"/>
              </a:rPr>
              <a:t>5.3.3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7" action="ppaction://hlinksldjump"/>
              </a:rPr>
              <a:t>文字的输入与格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8" action="ppaction://hlinksldjump"/>
              </a:rPr>
              <a:t>5.3.4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9" action="ppaction://hlinksldjump"/>
              </a:rPr>
              <a:t>幻灯片色彩的调整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>
            <a:hlinkClick r:id="rId10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  <a:hlinkClick r:id="rId11" action="ppaction://hlinksldjump"/>
              </a:rPr>
              <a:t>返回本章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5.3.1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幻灯片的插入、修改、删除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6204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（一）插入新的幻灯片，具体操作如下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首先选定要在其后插入新幻灯片的幻灯片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单击“插入”菜单上的“新幻灯片”选项，或者单击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5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工具栏上凸出显示的按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（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5-15   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工具栏）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在出现的“新幻灯片”对话框中选择所需版式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7640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10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655344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.1    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中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werPoint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hlinkClick r:id="rId2" action="ppaction://hlinksldjump"/>
              </a:rPr>
              <a:t>5.1.1   中文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hlinkClick r:id="rId3" action="ppaction://hlinksldjump"/>
              </a:rPr>
              <a:t>PowerPoint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hlinkClick r:id="rId4" action="ppaction://hlinksldjump"/>
              </a:rPr>
              <a:t>的功能与特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hlinkClick r:id="rId5" action="ppaction://hlinksldjump"/>
              </a:rPr>
              <a:t>5.1.2    启动与退出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hlinkClick r:id="rId6" action="ppaction://hlinksldjump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hlinkClick r:id="rId7" action="ppaction://hlinksldjump"/>
              </a:rPr>
              <a:t>5.1.3    中文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hlinkClick r:id="rId8" action="ppaction://hlinksldjump"/>
              </a:rPr>
              <a:t>PowerPoint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hlinkClick r:id="rId9" action="ppaction://hlinksldjump"/>
              </a:rPr>
              <a:t>的窗口介绍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hlinkClick r:id="rId10" action="ppaction://hlinksldjump"/>
              </a:rPr>
              <a:t>5.1.4    中文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hlinkClick r:id="rId11" action="ppaction://hlinksldjump"/>
              </a:rPr>
              <a:t>PowerPoint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hlinkClick r:id="rId12" action="ppaction://hlinksldjump"/>
              </a:rPr>
              <a:t>的视图方式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>
            <a:hlinkClick r:id="rId13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  <a:hlinkClick r:id="rId14" action="ppaction://hlinksldjump"/>
              </a:rPr>
              <a:t>返回本章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（二）删除幻灯片，可以通过以下几种途径实现：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在“大纲”窗格中单击要删除的幻灯片图标，如果有多张幻灯片要删除，按下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Shift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键并单击各个欲删除的幻灯片图标，然后按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elete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键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在幻灯片浏览视图中通过同样的方法选取一张或多张幻灯片，然后按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elete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键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5.3.2    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幻灯片的复制与移动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25680" y="1866960"/>
            <a:ext cx="42912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_x000b__x000c_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_x000b__x000c_"/>
                <a:ea typeface="_x000b__x000c_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_x000b__x000c_"/>
              </a:rPr>
              <a:t>）复制幻灯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_x000b__x000c_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_x000b__x000c_"/>
                <a:ea typeface="_x000b__x000c_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_x000b__x000c_"/>
              </a:rPr>
              <a:t>）移动幻灯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5.3.3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文字的输入与格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中，可以给文本的文字设置各种属性，如字体、字号、字形、颜色和阴影等，或者设置项目符号，使文本看起来更有条理、更整齐；给段落设置对齐方式、段落行距和间距，使文本看起来更错落有致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5276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8" name="pp2k77" descr="格式工具栏"/>
          <p:cNvPicPr/>
          <p:nvPr/>
        </p:nvPicPr>
        <p:blipFill>
          <a:blip r:embed="rId2"/>
          <a:stretch/>
        </p:blipFill>
        <p:spPr>
          <a:xfrm>
            <a:off x="438120" y="2743200"/>
            <a:ext cx="8267760" cy="457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344040" y="41911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8   “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格式”工具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15" descr=""/>
          <p:cNvPicPr/>
          <p:nvPr/>
        </p:nvPicPr>
        <p:blipFill>
          <a:blip r:embed="rId2"/>
          <a:stretch/>
        </p:blipFill>
        <p:spPr>
          <a:xfrm>
            <a:off x="1866960" y="1676520"/>
            <a:ext cx="5410080" cy="2995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659760" y="49528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9   “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字体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8636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7" name="pp2k52" descr="对齐方式"/>
          <p:cNvPicPr/>
          <p:nvPr/>
        </p:nvPicPr>
        <p:blipFill>
          <a:blip r:embed="rId2"/>
          <a:stretch/>
        </p:blipFill>
        <p:spPr>
          <a:xfrm>
            <a:off x="2362320" y="1600200"/>
            <a:ext cx="5056200" cy="32702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980440" y="5181480"/>
            <a:ext cx="38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20   “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格式”菜单中的“对齐方式”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5.3.4   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幻灯片色彩的调整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单击“格式”菜单中的“幻灯片配色方案”命令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）随后出现的“配色方案”对话框中罗列了几种配色方案，在合适的方案上单击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）若不满意已有的方案，可以在如图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5-21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所示的配色方案中选择“自定义”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8616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5" name="22" descr=""/>
          <p:cNvPicPr/>
          <p:nvPr/>
        </p:nvPicPr>
        <p:blipFill>
          <a:blip r:embed="rId2"/>
          <a:stretch/>
        </p:blipFill>
        <p:spPr>
          <a:xfrm>
            <a:off x="2111400" y="1219320"/>
            <a:ext cx="4919760" cy="37335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556440" y="52578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21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配色方案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.4    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演示及打印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663200" y="1905120"/>
            <a:ext cx="5815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2" action="ppaction://hlinksldjump"/>
              </a:rPr>
              <a:t>5.4.1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3" action="ppaction://hlinksldjump"/>
              </a:rPr>
              <a:t>加入动画效果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4" action="ppaction://hlinksldjump"/>
              </a:rPr>
              <a:t>5.4.2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5" action="ppaction://hlinksldjump"/>
              </a:rPr>
              <a:t>加入声音效果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6" action="ppaction://hlinksldjump"/>
              </a:rPr>
              <a:t>5.4.3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7" action="ppaction://hlinksldjump"/>
              </a:rPr>
              <a:t>演示文稿的超级链接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8" action="ppaction://hlinksldjump"/>
              </a:rPr>
              <a:t>5.4.4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9" action="ppaction://hlinksldjump"/>
              </a:rPr>
              <a:t>放映演示文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10" action="ppaction://hlinksldjump"/>
              </a:rPr>
              <a:t>5.4.5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11" action="ppaction://hlinksldjump"/>
              </a:rPr>
              <a:t>演示文稿的打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12" action="ppaction://hlinksldjump"/>
              </a:rPr>
              <a:t>5.4.6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13" action="ppaction://hlinksldjump"/>
              </a:rPr>
              <a:t>保存和打印演示文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>
            <a:hlinkClick r:id="rId14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  <a:hlinkClick r:id="rId15" action="ppaction://hlinksldjump"/>
              </a:rPr>
              <a:t>返回本章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5.4.1 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加入动画效果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3" name="23" descr=""/>
          <p:cNvPicPr/>
          <p:nvPr/>
        </p:nvPicPr>
        <p:blipFill>
          <a:blip r:embed="rId2"/>
          <a:stretch/>
        </p:blipFill>
        <p:spPr>
          <a:xfrm>
            <a:off x="1479600" y="1587600"/>
            <a:ext cx="2074680" cy="3517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94812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5" name="24" descr=""/>
          <p:cNvPicPr/>
          <p:nvPr/>
        </p:nvPicPr>
        <p:blipFill>
          <a:blip r:embed="rId3"/>
          <a:stretch/>
        </p:blipFill>
        <p:spPr>
          <a:xfrm>
            <a:off x="5632560" y="1538280"/>
            <a:ext cx="1971720" cy="35672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379520" y="5562720"/>
            <a:ext cx="28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22  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文本的预设动画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5600" y="55627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23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形的预设动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华文仿宋"/>
                <a:ea typeface="华文仿宋"/>
              </a:rPr>
              <a:t>5.1.1   </a:t>
            </a:r>
            <a:r>
              <a:rPr b="1" lang="zh-CN" sz="3200" spc="-1" strike="noStrike">
                <a:solidFill>
                  <a:srgbClr val="ffffcc"/>
                </a:solidFill>
                <a:latin typeface="华文仿宋"/>
                <a:ea typeface="华文仿宋"/>
              </a:rPr>
              <a:t>中文</a:t>
            </a:r>
            <a:r>
              <a:rPr b="1" lang="zh-CN" sz="3200" spc="-1" strike="noStrike">
                <a:solidFill>
                  <a:srgbClr val="ffffcc"/>
                </a:solidFill>
                <a:latin typeface="华文仿宋"/>
                <a:ea typeface="华文仿宋"/>
              </a:rPr>
              <a:t>PowerPoint</a:t>
            </a:r>
            <a:r>
              <a:rPr b="1" lang="zh-CN" sz="3200" spc="-1" strike="noStrike">
                <a:solidFill>
                  <a:srgbClr val="ffffcc"/>
                </a:solidFill>
                <a:latin typeface="华文仿宋"/>
                <a:ea typeface="华文仿宋"/>
              </a:rPr>
              <a:t>的功能与特点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利用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PowerPoint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可以创建联机演示文稿、网上使用的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Web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页、彩色和黑白投影机幻灯片、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35mm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幻灯片、观众讲义、演讲者备注等，同时还可以实现彩色和黑白纸张打印输出。因为它和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Word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、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Excel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等应用软件一样，都属于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Microsoft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公司推出的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Office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系列产品之一，所以它们之间具有良好的信息交互性和相似的操作方法。网络、多媒体和幻灯片的有机结合是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PowerPoint 2000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的突出体现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  <a:ea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8600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0" name="25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392200" y="1855800"/>
            <a:ext cx="4357800" cy="31449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897280" y="533412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24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设置放映时对象出现的顺序和时间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5.4.2 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加入声音效果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）单击“插入”菜单，选取“影片和声音”项，在子菜单中选取“文件中的声音”命令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）插入影片和插入声音操作是非常相似的。单击“插入”菜单，选择“影片和声音”命令，在子菜单中选取“文件中的影片”命令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5.4.3 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演示文稿的超级链接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创建超级链接的具体操作是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选定任意的文本或对象（包括按钮和图片）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单击“幻灯片放映”菜单中的“动作设置”命令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在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5-25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的动作设置选择框中按需要设置动作和超级链接的目标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）最后按“确定”按钮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146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2" name="31" descr=""/>
          <p:cNvPicPr/>
          <p:nvPr/>
        </p:nvPicPr>
        <p:blipFill>
          <a:blip r:embed="rId2"/>
          <a:stretch/>
        </p:blipFill>
        <p:spPr>
          <a:xfrm>
            <a:off x="2747880" y="1371600"/>
            <a:ext cx="3648240" cy="3598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556440" y="533412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25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动作设置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5.4.4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放映演示文稿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625760" y="1599840"/>
            <a:ext cx="5891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制作完成自己的演示文稿，一般说来遵循以下这几个步骤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第一步：设置放映方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第二步：插入动作按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第三步：自定义动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第四步：切换设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第五步：观看放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第六步：排练计时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第七步：完成制作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第一步：设置放映方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005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0" name="32" descr=""/>
          <p:cNvPicPr/>
          <p:nvPr/>
        </p:nvPicPr>
        <p:blipFill>
          <a:blip r:embed="rId2"/>
          <a:stretch/>
        </p:blipFill>
        <p:spPr>
          <a:xfrm>
            <a:off x="2209680" y="1860480"/>
            <a:ext cx="5286600" cy="31370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521520" y="5334120"/>
            <a:ext cx="26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26  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设置放映方式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第二步：插入动作按钮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09480" y="1790640"/>
            <a:ext cx="2970360" cy="3276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37176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5" name="35" descr=""/>
          <p:cNvPicPr/>
          <p:nvPr/>
        </p:nvPicPr>
        <p:blipFill>
          <a:blip r:embed="rId3"/>
          <a:stretch/>
        </p:blipFill>
        <p:spPr>
          <a:xfrm>
            <a:off x="4267080" y="1930320"/>
            <a:ext cx="4267440" cy="2997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93880" y="556272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27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动作按钮设置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16600" y="5486400"/>
            <a:ext cx="29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28  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动作按钮动作设置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第三步：自定义动画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247840" y="1577880"/>
            <a:ext cx="4648320" cy="37004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514600" y="5486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 “自定义动画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第四步：切换设置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247840" y="1579680"/>
            <a:ext cx="4648320" cy="36986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086280" y="5562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29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幻灯片浏览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第五步：观看放映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演示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文稿的方法很简单，单击“幻灯片放映”菜单中的“观看放映”菜单，或是点击工具栏中的图标，都可以演示当前文稿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5.1.2 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启动与退出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PowerPoint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的启动有下面几种方法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）用鼠标单击“开始”按钮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直接用鼠标双击快捷方式图标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可以在“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indows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资源管理器”或者“我的文档”中用鼠标双击后缀为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.PPT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的文件，便会在启动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PowerPoint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的同时打开该文件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第六步：排练计时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50292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第七步：完成制作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排练完成后，统计出幻灯片的总共放映时间，演示文稿的制作也就告一段落了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5.4.5   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演示文稿的打包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的“打包”功能提供了一个“向导”，这个“向导”可以将演示文稿所需的所有文件和字体以及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播放器打包到软盘内，然后将播放器和演示文稿一起解压缩到另一台计算机上，哪怕这台计算机没有安装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，照样能够进行幻灯片放映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31956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5" name="37" descr=""/>
          <p:cNvPicPr/>
          <p:nvPr/>
        </p:nvPicPr>
        <p:blipFill>
          <a:blip r:embed="rId2"/>
          <a:stretch/>
        </p:blipFill>
        <p:spPr>
          <a:xfrm>
            <a:off x="1658880" y="2232000"/>
            <a:ext cx="5824440" cy="2392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561120" y="50292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30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打包还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5.4.6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保存和打印演示文稿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保存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单击“常用”工具栏上的“保存”按钮，弹出“另存为”对话框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打印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单击“文件”菜单，选择“打印”命令，弹出“打印”对话框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90720" y="121932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Thank you very much!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4" name="0174" descr=""/>
          <p:cNvPicPr/>
          <p:nvPr/>
        </p:nvPicPr>
        <p:blipFill>
          <a:blip r:embed="rId2"/>
          <a:stretch/>
        </p:blipFill>
        <p:spPr>
          <a:xfrm>
            <a:off x="3124080" y="2666880"/>
            <a:ext cx="3657600" cy="26751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320" y="2133720"/>
            <a:ext cx="200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方正舒体"/>
              </a:rPr>
              <a:t>本章到此结束，谢谢您的光临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endshow"/>
          </p:cNvPr>
          <p:cNvSpPr/>
          <p:nvPr/>
        </p:nvSpPr>
        <p:spPr>
          <a:xfrm>
            <a:off x="289548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退    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>
            <a:hlinkClick r:id="rId3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返回本章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退出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PowerPoint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有以下几种方法：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用鼠标单击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PowerPoint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的文件菜单，然后在下拉菜单中用鼠标选择“退出”并单击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用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Alt+F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组合键打开文件下拉菜单，然后按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键退出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PowerPoint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在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PowerPoint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窗口中用鼠标单击窗口右上角的“关闭”按钮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5.1.3 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中文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PowerPoint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的窗口介绍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336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未命名 -2" descr=""/>
          <p:cNvPicPr/>
          <p:nvPr/>
        </p:nvPicPr>
        <p:blipFill>
          <a:blip r:embed="rId2"/>
          <a:stretch/>
        </p:blipFill>
        <p:spPr>
          <a:xfrm>
            <a:off x="2190600" y="1836720"/>
            <a:ext cx="4762800" cy="3184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84680" y="5257800"/>
            <a:ext cx="33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   PowerPoint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窗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5.1.4    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中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PowerPoint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的视图方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普通视图：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普通视图包含三种窗格：大纲窗格、幻灯片窗格和备注窗格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幻灯片浏览视图：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在幻灯片浏览视图中，可以在屏幕上同时看到演示文稿中的所有幻灯片，这些幻灯片是以缩图显示的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.2    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中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werPoint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演示文稿的创建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2" action="ppaction://hlinksldjump"/>
              </a:rPr>
              <a:t>5.2.1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3" action="ppaction://hlinksldjump"/>
              </a:rPr>
              <a:t>利用内容提示向导创建演示文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4" action="ppaction://hlinksldjump"/>
              </a:rPr>
              <a:t>5.2.2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5" action="ppaction://hlinksldjump"/>
              </a:rPr>
              <a:t>利用模板创建演示文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6" action="ppaction://hlinksldjump"/>
              </a:rPr>
              <a:t>5.2.3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7" action="ppaction://hlinksldjump"/>
              </a:rPr>
              <a:t>创建空白的演示文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8" action="ppaction://hlinksldjump"/>
              </a:rPr>
              <a:t>5.2.4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9" action="ppaction://hlinksldjump"/>
              </a:rPr>
              <a:t>导入大纲创建演示文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>
            <a:hlinkClick r:id="rId10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  <a:hlinkClick r:id="rId11" action="ppaction://hlinksldjump"/>
              </a:rPr>
              <a:t>返回本章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  <a:ea typeface="Arial"/>
              </a:rPr>
              <a:t>5.2.1    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  <a:ea typeface="黑体"/>
              </a:rPr>
              <a:t>利用内容提示向导创建演示文稿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12" descr=""/>
          <p:cNvPicPr/>
          <p:nvPr/>
        </p:nvPicPr>
        <p:blipFill>
          <a:blip r:embed="rId2"/>
          <a:stretch/>
        </p:blipFill>
        <p:spPr>
          <a:xfrm>
            <a:off x="1219320" y="1998720"/>
            <a:ext cx="2592360" cy="3030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39552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4" descr=""/>
          <p:cNvPicPr/>
          <p:nvPr/>
        </p:nvPicPr>
        <p:blipFill>
          <a:blip r:embed="rId3"/>
          <a:stretch/>
        </p:blipFill>
        <p:spPr>
          <a:xfrm>
            <a:off x="4876920" y="2120760"/>
            <a:ext cx="3962160" cy="2614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311840" y="5486400"/>
            <a:ext cx="24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3  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新建演示文稿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63720" y="548640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4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内容提示向导的开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80840" y="1295280"/>
            <a:ext cx="28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创建过程如下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至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3T00:23:44Z</dcterms:created>
  <dc:creator>gsjf</dc:creator>
  <dc:description/>
  <dc:language>en-US</dc:language>
  <cp:lastModifiedBy>gsjf</cp:lastModifiedBy>
  <dcterms:modified xsi:type="dcterms:W3CDTF">2001-09-07T14:58:41Z</dcterms:modified>
  <cp:revision>28</cp:revision>
  <dc:subject/>
  <dc:title>[公司名称]</dc:title>
</cp:coreProperties>
</file>